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57FB-1073-4B22-88AF-8582E07C1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962E-A310-486E-8952-031EA063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22EF-4A34-4675-A3A3-3AC003AA7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BFD-4126-483C-A549-A0558DD44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64DD-DE4F-43E7-A54C-63090988C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B2C6-7B0A-43D5-A569-665C54777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A39F-68E8-494E-8BC1-DF41D040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2590-9C26-4004-8115-43A70847B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6E51-085B-41F0-B218-56952D77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EA23-7555-49FD-9ED5-3BEB403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60E6-311D-460B-886C-1FFEC53E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A32E-4547-49EF-B33D-A4AC2A25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07380-BB58-4233-A452-B5CE7F8C37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hyperlink" Target="http://es.wikipedia.org/wiki/Anexo:Galer&#237;a_de_banderas_de_estados_soberanos" TargetMode="External"/><Relationship Id="rId4" Type="http://schemas.openxmlformats.org/officeDocument/2006/relationships/hyperlink" Target="http://es.wikipedia.org/wiki/Escudo_(her&#225;ldica)" TargetMode="External"/><Relationship Id="rId5" Type="http://schemas.openxmlformats.org/officeDocument/2006/relationships/hyperlink" Target="http://es.wikipedia.org/wiki/Escudo_(her&#225;ldica)" TargetMode="External"/><Relationship Id="rId6" Type="http://schemas.openxmlformats.org/officeDocument/2006/relationships/hyperlink" Target="http://es.wikipedia.org/wiki/Escudo_(her&#225;ldica)" TargetMode="External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s.wikipedia.org/w/index.php?title=Color_nacional&amp;action=edit&amp;redlink=1" TargetMode="External"/><Relationship Id="rId3" Type="http://schemas.openxmlformats.org/officeDocument/2006/relationships/hyperlink" Target="http://es.wikipedia.org/w/index.php?title=Color_nacional&amp;action=edit&amp;redlink=1" TargetMode="External"/><Relationship Id="rId4" Type="http://schemas.openxmlformats.org/officeDocument/2006/relationships/hyperlink" Target="http://es.wikipedia.org/w/index.php?title=Flor_Nacional&amp;action=edit&amp;redlink=1" TargetMode="External"/><Relationship Id="rId5" Type="http://schemas.openxmlformats.org/officeDocument/2006/relationships/hyperlink" Target="http://es.wikipedia.org/wiki/Animales_emblem&#225;ticos_de_los_pa&#237;ses" TargetMode="External"/><Relationship Id="rId6" Type="http://schemas.openxmlformats.org/officeDocument/2006/relationships/hyperlink" Target="http://es.wikipedia.org/wiki/Plato_nacional" TargetMode="External"/><Relationship Id="rId7" Type="http://schemas.openxmlformats.org/officeDocument/2006/relationships/hyperlink" Target="http://es.wikipedia.org/w/index.php?title=Objeto_nacional&amp;action=edit&amp;redlink=1" TargetMode="External"/><Relationship Id="rId8" Type="http://schemas.openxmlformats.org/officeDocument/2006/relationships/hyperlink" Target="http://es.wikipedia.org/w/index.php?title=Objeto_nacional&amp;action=edit&amp;redlink=1" TargetMode="External"/><Relationship Id="rId9" Type="http://schemas.openxmlformats.org/officeDocument/2006/relationships/hyperlink" Target="http://es.wikipedia.org/w/index.php?title=Territorio_nacional&amp;action=edit&amp;redlink=1" TargetMode="External"/><Relationship Id="rId10" Type="http://schemas.openxmlformats.org/officeDocument/2006/relationships/hyperlink" Target="http://es.wikipedia.org/w/index.php?title=Territorio_nacional&amp;action=edit&amp;redlink=1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Lic. Francisco del R. S.</a:t>
            </a:r>
            <a:br>
              <a:rPr sz="4400"/>
            </a:b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11/02/20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ema: los símbolos pat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Números particip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*18      *23     *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9900"/>
                </a:solidFill>
                <a:latin typeface="Arial"/>
              </a:rPr>
              <a:t>*32     *33     *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474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8604000" cy="6193080"/>
          </a:xfrm>
          <a:prstGeom prst="rect">
            <a:avLst/>
          </a:prstGeom>
          <a:ln w="0">
            <a:noFill/>
          </a:ln>
        </p:spPr>
      </p:pic>
    </p:spTree>
  </p:cSld>
  <p:transition advTm="170000">
    <p:comb dir="horz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 rot="1207800">
            <a:off x="5909760" y="4161960"/>
            <a:ext cx="2664000" cy="221148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Escudo Dominican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escudo de la República Dominicana es el emblema que, solo o junto a la bandera, representa el estado libre, independiente y soberano de nuestro paí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0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215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98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Arial"/>
              </a:rPr>
              <a:t>Origen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de el inicio de la República figura en los documentos oficiales expedidosen 1844 por la Junta Central Gubernamental, pero es en la primera Constitución dominicana, votada el 6 de noviembre del mismo año, en la ciudad de San Cristóbal, donde por primera vez se da una versión oficial del escudo de arm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 han registrado unas diecinueve versiones del escudo hasta llegar al actual, establecido durante el gobierno del Doctor Adolfo A. Nouel, en el año 191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mb dir="horz"/>
  </p:transition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Himno 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el canto a la Patria. Es una composición poético musical que tiene por objeto homenaje a los ideales de libertad de nuestro pueblo. En él se hace una relación de los hechos que con su sacrificio contribuyeron a que hoy tengamos una Patria libre y soberan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strips dir="rd"/>
  </p:transition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24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letras escritas por Emilio Prud’ Homme y la música compuesta por José R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Nuestra constitución o carta magna consagra que el Himno Nacional es: La composición musical establecida por la ley No. 700 del 30 de mayo de 1934, y es invariable, único y e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ue interpretado por primera en la ciudad Capital de Santo Domingo el 17 de Agosto de 1983, con motivo del vigésimo aniversario de la R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600" spc="-1" strike="noStrike">
                <a:solidFill>
                  <a:srgbClr val="ffff66"/>
                </a:solidFill>
                <a:latin typeface="Comic Sans MS"/>
              </a:rPr>
              <a:t>Los estudiantes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mb dir="horz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8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mo podemos observar, los estudiantes también son un símbolo patri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Somos uno, de esos símbolos tan importante dentro de los rengl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ver dir="d"/>
  </p:transition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Opinión pers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uestra opinión.…es que, los símbolos patrios son muy necesario, a diario vemos y convivimos con los símbolos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 cada escuela deberían incrustar, un poco mas los símbolos y nuestra Republica Dominica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Conclus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Con esto concluimos, por que existen muchos símbolos patrios, pero si nos llevamos de esto, este trabajo no tendría fi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Tenemos que respetar los símbolos patrios, por que eso va dentro de nuestros valores familiar y educativo….desde los mas importante hasta el k menos valor tiene -------( ósea todo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Introducció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e trabajo de los símbolos patrios, trata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Qué son los símbolos patr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Cuáles son los símbolos patrio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*¿Cuál es su importanci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ntre otras cosas que, verán a continuación, basado en los símbolos patrios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ipe dir="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98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98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98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98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98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Alba Casti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es damos las gracias! Por su gran motivación hacia, elaborar estas clases tan creativas y maravillosas….Donde hemos comprobado que estudiamos mas y aprendemos lo suficiente..nuevamente les damos mil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0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768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8" dur="768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0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2" dur="768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Argumen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s 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símbolos patrio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son aquéllos que representan a estados, naciones y países, y así son reconocidos por otros estados. Generalmente estos símbolos se formulan a partir de representaciones visuales o verbales que pretenden difundir los valores de la historia o de los personajes célebres del paí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unque en su mayoría los más usados son la bandera nacional y el escudo, los símbolos nacionales pueden s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La bandera nacional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escudo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</a:t>
            </a:r>
            <a:r>
              <a:rPr b="0" lang="es-ES" sz="3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armas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 del país o la dinastía reinante en el caso de los países con sistemas monárquic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padre o fundador de la n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olor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 nacion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Gastronomía nacional ó específicamente plato/bebida nacion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La Flor nacional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El animal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lat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objet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territorio</a:t>
            </a:r>
            <a:r>
              <a:rPr b="0" lang="es-ES" sz="28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 </a:t>
            </a:r>
            <a:r>
              <a:rPr b="0" lang="es-ES" sz="2800" spc="-1" strike="noStrike" u="sng">
                <a:solidFill>
                  <a:srgbClr val="ffffff"/>
                </a:solidFill>
                <a:uFillTx/>
                <a:latin typeface="Arial"/>
              </a:rPr>
              <a:t>himno 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Todo lo mencionado anterior mente, son símbolos de la patria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 estos símbolos hay algunos que son mas importantes que otros pero todos don importante y como dominicanos que somos debemos de, saber cuales son nuestros símbolos patrios, por que muchos tienen el concepto, de que solo es la bandera y el escu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170000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9933"/>
                </a:solidFill>
                <a:latin typeface="Arial"/>
              </a:rPr>
              <a:t>Desarroll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a bandera dominicana fue elaborada por Concepción Bona y por María de Jesús y Benítez. Se izó por primera vez la noche del 27 de febrero de 1844, el día de la independencia. Nuestra bandera esta compuesta por cuadros azules y rojos atravesados por una cruz blanca que lleva en el centro el escudo naciona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cover dir="d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color tiene un significado; el rojo representa la sangre derramada por nuestros patriotas para obtener la independencia, el azul representa el cielo y la gloria, y el blanco la paz que disfrutamos gracias a la liberta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Bandera es el más sublime símbolo de la libertad y la soberanía nacional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70000">
    <p:wedg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8:05:37Z</dcterms:created>
  <dc:creator>Yorkin</dc:creator>
  <dc:description/>
  <dc:language>en-US</dc:language>
  <cp:lastModifiedBy>Yorkin</cp:lastModifiedBy>
  <dcterms:modified xsi:type="dcterms:W3CDTF">2011-02-11T22:23:46Z</dcterms:modified>
  <cp:revision>2</cp:revision>
  <dc:subject/>
  <dc:title>Lic. Francisco del R. S.</dc:title>
</cp:coreProperties>
</file>